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E0561-4719-4050-B859-C0CB95ADC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674A-FA80-4C14-9F5E-E4AA800D6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7A31D-FBDB-42DA-970D-349D27327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B36D8-91C2-4915-9792-8047A20E7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2485F-A96E-42C9-885C-1C6883F0F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80982-1C4C-4B23-808E-FBA5A1D22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D3C7D-04A4-4687-BDD9-9C26883B7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908C5-B4D3-435A-AB02-7ADA20D04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8DA01-26C4-4D11-B135-532B104BD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1D5CA-E1B9-49FB-A569-AC5136270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0227A-6E39-40BE-A0A6-23C314956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4649A-373D-4B62-86C3-2AD2EC311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A618-1A28-4179-AC05-9615442CD4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ursed Pla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Ya Boy S-Rod</a:t>
            </a:r>
            <a:endParaRPr b="0" lang="en-US" sz="3200" spc="-1" strike="noStrike">
              <a:solidFill>
                <a:srgbClr val="000000"/>
              </a:solidFill>
              <a:latin typeface="Arial"/>
            </a:endParaRPr>
          </a:p>
        </p:txBody>
      </p:sp>
      <p:pic>
        <p:nvPicPr>
          <p:cNvPr id="43" name="" descr=""/>
          <p:cNvPicPr/>
          <p:nvPr/>
        </p:nvPicPr>
        <p:blipFill>
          <a:blip r:embed="rId2"/>
          <a:stretch/>
        </p:blipFill>
        <p:spPr>
          <a:xfrm>
            <a:off x="2971800" y="4419720"/>
            <a:ext cx="3200400" cy="22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ches are Bad people and should be beaten down by the police with iron pi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4</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the historical figure of Macbe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istorical figure of Macbeth is king Macbeth of Scot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4</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Macbeth a good man who grows into a villa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31680"/>
            <a:ext cx="9144000" cy="688968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 he turns into a villain by killing the king by stabbing in the throat with a knif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Cited Pag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pe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esco Host</a:t>
            </a:r>
            <a:endParaRPr b="0" lang="en-US" sz="3200" spc="-1" strike="noStrike">
              <a:solidFill>
                <a:srgbClr val="000000"/>
              </a:solidFill>
              <a:latin typeface="Arial"/>
            </a:endParaRPr>
          </a:p>
        </p:txBody>
      </p:sp>
      <p:pic>
        <p:nvPicPr>
          <p:cNvPr id="75" name="" descr=""/>
          <p:cNvPicPr/>
          <p:nvPr/>
        </p:nvPicPr>
        <p:blipFill>
          <a:blip r:embed="rId1"/>
          <a:stretch/>
        </p:blipFill>
        <p:spPr>
          <a:xfrm>
            <a:off x="4267080" y="1295280"/>
            <a:ext cx="381024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58680"/>
            <a:ext cx="9144000" cy="679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beth was written in the early 1600's (most likely sometime between 1604 and 1606) by William Shakespea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ing Macbeth inside the theater brings bad luck to anyone in the play and the people acting in it the only exception is to say it while your performing the 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9696"/>
            </a:gs>
            <a:gs pos="100000">
              <a:srgbClr val="ffff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verse the bad luck it is said to exit the theater spin around three times saying profanity then ask permission to go back insi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lso other variations of the ritual as well that involve spitting over your shoulders and or just saying a lot of cuss words whatever you do you must do it or you will be curs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first performance of Macbeth, William Shakespeare himself was forced to play Lady Macbeth when the boy designated to play her suddenly became overcome with sickness and di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msterdam in 1672, the actor playing Macbeth substituted the blunt stage dagger with a real one, and with killed his co-actor playing Duncan right in front of the live audien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as even an incident in 1721 where the army had to be called in. Some hecklers were annoying some of the actors on the stage. The actors responded by attacking the hecklers with their swor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its 1849 performance at New York's Astor Place, 31 people were trampled to death in a riot that had broken ou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34, British actor Malcolm Keen turned mute on stage, and his replacement developed a high fever and had to be hospitaliz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37, a 25 pound stage weight crashed within an inch of him Laurence Olivier (who was playing Macbeth). Not only that, but his sword broke on stage flew into the audience, hitting a man who later suffered a heart attac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think that was enough bad luck for one production, think again. Both the director and the actress playing Lady Mac duff were involved in a car accident on the way to the theater, and the proprietor of the theater died of a heart attack during the dress rehearsa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42, three actors in another production of Macbeth died, and the costume and set designer committed suicide. Diana Wynyard sleepwalked off the rostrum in 1948 and feel down 15 feet. In Bermuda, 1953, Charlton Heston suffered severe burns in his groin and leg from tights that were accidentally soaked in kerosene. Rip Torn's seemed to be unable to get away from the curse no matter how many times he tried. An actor's strike struck his 1970 production in New York City, two fires and seven robberies plagued the 1971 version, and finally J. Kenneth Campbell, who played Macduff, was mugged soon after the play's opening in the 1981 production. And finally, it was Macbeth that Abraham Lincoln chose to take with him on board the River Queen on the Potomac River one afternoon. The president was reading to a group of friends passages of the play that happened to follow the scene in which Duncan was assassinated. Within a week, President Lincoln himself was assassina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2</a:t>
            </a:r>
            <a:endParaRPr b="0" lang="en-US" sz="4400" spc="-1" strike="noStrike">
              <a:solidFill>
                <a:srgbClr val="000000"/>
              </a:solidFill>
              <a:latin typeface="Arial"/>
            </a:endParaRPr>
          </a:p>
        </p:txBody>
      </p:sp>
      <p:sp>
        <p:nvSpPr>
          <p:cNvPr id="55"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Lady Macbeth be the same age as Lord Macbe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should be should be older she would be more mature about the situation and wouldn’t try to talk Macbeth into killing the 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3</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 the predictions made by the three witches mean and what is the significance that there are three weird sisters and why the term si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9:40:20Z</dcterms:created>
  <dc:creator> </dc:creator>
  <dc:description/>
  <dc:language>en-US</dc:language>
  <cp:lastModifiedBy> </cp:lastModifiedBy>
  <dcterms:modified xsi:type="dcterms:W3CDTF">2010-02-05T20:20:30Z</dcterms:modified>
  <cp:revision>6</cp:revision>
  <dc:subject/>
  <dc:title>The Cursed Play</dc:title>
</cp:coreProperties>
</file>